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8D30-1CF3-4940-A0E9-4B8D02F4044A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1CB1-6B09-483F-BA62-F2433FD53209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E6CB9-377E-45D3-B4C3-5A7F24DD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90B12-55D8-4B2E-9944-883E8874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829E0-DC83-4617-B758-05640D8B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2856A-9260-44EA-9850-00C53483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3E52B-D5FB-4852-BB7B-FBA0DD86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71689-8106-474D-B873-9B1B344E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0C377-50FB-4FD4-A11A-5ABEEB54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88AB4-CBB3-4811-8424-CA281D22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83855-71CF-4C31-8BFB-4836BAE9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A2F50-1D13-40E4-99FB-1DFA681A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F2A8B-E946-4AD2-8103-BFF81397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62976-D44B-4DCD-BFD6-C300217D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423A3-FCB5-4EDF-B046-3EECFDC8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F8CD1-1E62-4F14-A44B-DE196B57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3EA21-22AF-4F47-8E73-60212B14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AF81E-4022-47F9-9A61-F68E924A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99929-EC32-4E35-99E1-D6CCFED8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393CA-BB4F-490E-A5E6-2775B03D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06832-5EDA-452F-A9ED-7B52EB0A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15CF3-6D79-4020-B524-ADD7EF6B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DAD0B-30E8-48F5-A5FA-8050DD42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2F2E1-B2A4-42B5-B858-19DAE866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2BE5C-EF1A-41BC-AF1C-A0F979E5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4C8D6-0C2E-4DFE-85BD-5FF1E6A8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349DD-56FE-4B58-8611-D79F2A3B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42109-75AB-4132-B27E-52E00EEC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1FB50-8C78-4235-B78A-2202C651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A4E65-70E5-4DD1-9454-C6D217AC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2FDFD-0717-4C36-94A9-685A9F32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1B24C-E833-4AE3-BB49-D962574D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9AB1-3103-4238-94E1-B6EB98895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247B5-C300-4254-9B67-12E2817A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38B9B-4E10-427B-BB43-80188478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AC1A3-5678-4D60-AEE1-10B4678C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E2D88-05C7-4334-B591-10247E2D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A6530-625B-4F61-BA50-81D44244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E1D28-3CB9-486A-BE1B-6BD07049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B53ED-5A07-487A-AFDE-9712662E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55DCA-5865-4834-ADB2-31923142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E72AD-3AC1-41BA-B2F0-0B20A734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CE7A1-691A-4400-A66E-F77328C3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8AC1-5FD7-4E06-A4D0-AB110A1F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32BA5-F558-43F7-BA73-B0346BB7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CE88F-79B0-4827-B931-7E4317DA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FF96B-89A0-40A0-8B2A-54F27D8E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F30BF-8476-4DF1-BB00-E0585A93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CE7DF-511A-482E-A7BB-501D14B1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1E38-F35A-4083-B156-07A85FAB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8F47-E4DD-4FA7-9C4C-484049B3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0E8-1803-4E23-BC12-C38B7B82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F9A3-C930-4D85-A3B5-F6D30DCB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B495-179F-447F-A85F-6A6CB328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4C2-1292-4ECF-B8E1-F4B89E2B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9CC-9DFB-4219-B1FC-8923F306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3BBE-1BCE-44B6-B159-71445339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F1E9-F40F-4641-AB3F-F8FE1AF1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43E-6D9D-4F4D-AA05-03D0CAD3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BEDB-1C76-4F0B-BC7E-C6B830AA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EF2E-2278-477F-9A8D-B3F3DF5A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CBAB-7F6D-4FB4-B4EC-2F8F5067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CF2E-4D50-4303-ADCB-DBD38844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6541-3333-4679-9ED5-28528200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5706-2184-48F8-891F-7C27741E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93D0-1E69-4368-A4A6-EDDCA21C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3E11-4E5C-4B15-BB62-2421F664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914E-5DBF-41C8-A9E5-AC0A3DEB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5C0C-6C7A-4C58-B3D9-82E79E97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2FD8-F3AB-4217-A402-A0B04E17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AE64-583D-4F06-8C09-0ADAF317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68E96-2F10-4B64-A4CA-6872E934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2CE84-40DD-4C24-83C8-F865414A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0F67B-A5EE-4F4F-9CA4-9983F1BE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0C618-5B82-4735-83AF-9EF5FDD0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423C0-79BB-4D61-A112-E167107B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2E215-A22E-4DA5-B2C8-D90CE220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BC944-9283-40A6-AB6E-22910C30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6758E-24F7-4F4D-BDB7-88FC07DC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1BC94-A2D8-4C45-AF42-5E5B9468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06492-926E-4FDF-90AB-677DB909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27699-BE07-473A-9995-3B537422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6026E-8A43-4869-BFD4-8A7931D7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6D5EF-0395-4C47-8BC4-75CD16D8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C1599-18E3-45E8-A203-D4166AF1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B8ED1-1737-4D21-BEF3-723CD182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5A960-9FB5-4000-94F2-E21E0CA3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7D09F-78F0-47F9-BC40-D0A72403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6A7BC-FB12-4282-A23C-FB4BC2F7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C6B8A-D989-4E56-BA99-E187A8CE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7831D-A4F2-45A1-BA08-73EBAD10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D4276-5306-4A37-A35B-73D89561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383EF-6D8D-4019-A0CE-FE497DF2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05B1A-5FA3-47B2-B350-53B2855E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C7EB0-8B6A-40CE-9482-8F788532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BDFE4-74B0-43E6-B7DE-D0714513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D6B06-83B9-4F44-8B25-38404C4C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82D28-5354-4DF9-86C4-1C131A51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F9B77-A8E8-465A-8360-E977A4BF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87334-65BF-4674-894D-7A7BEA4F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D5FC2-4F33-4BFA-8348-3716ADF9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F9BC6-1638-4454-880A-428B96DA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AB0EE-905A-4390-AC55-41652C0D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80C55-AACD-4DEC-99B1-6329EDED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42A61-E0C0-4A12-8FD5-27B52CE0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1EB3C-710A-4C2F-B6BD-D286F970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C7544-7361-4849-BCB8-B0A3685B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0813C-1A2C-47C2-BB57-953D4E26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66090-5BD5-45EB-BC5F-89CB3E16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93794-BB8D-44EA-9BEF-9AE7A497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DD366-EF8B-4373-A684-2B0825DC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C461E-948A-4B45-96E3-9E5F5F1A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35600-C320-41F3-AAD5-3D6C614D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6CD17-9908-40C6-95F9-7E8779A0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B61D3-78D7-4043-BC02-61BE1664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BE7F4-30FE-4B09-BC12-6B64A088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B5388-100A-404B-A5F1-DD1C1D80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741DA-FF3A-412D-9234-1CC2006B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B4EF3-84E1-4E2E-964D-4FBAE479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D1BB3-56C3-498E-B9DF-490C6C5C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13335-E309-4E8C-A71B-F97C9D44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545F3-1110-493D-AD00-F45CF86E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D5B9A-388D-4407-9F80-186FE565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E52A0-695E-4F91-BDD8-8747546D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F9002-2C5B-4C24-A5FE-2D242C0B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02178-B01E-4D6F-A0A8-026CF4C2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C18CD-781C-40C2-A130-B78BFD9D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4DA20-D800-49E8-9E30-7B344BDE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F5950-962F-494E-946F-D9A2897A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CBC64-51E2-4D9A-AE58-6825A11A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B24B0-ED40-4575-8388-84CC6806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8DB0A-D7DB-4CB0-9431-DAC1CC37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1C0FC-B923-436B-902E-484C4BAC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31ABD-5838-4236-BADA-4BDD0D90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0993-82C9-45F9-8368-FCE9C379AEB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17A2-E7E2-419B-AB27-F387D3FDB96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D2D7-5E08-4B38-8718-EDC753DFDEC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7D32-68CF-4B8B-AEAE-A2CB7A926C6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DDD1-A953-4702-8C8E-1EEAB7A0865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910F-0052-4FB3-8DA6-B0AB8A84EB4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2BA9-D3B4-43B7-AAF6-322C7057429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E98B-12B4-480E-9255-E4E4CEEA749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621A-3F87-4E39-95DF-853A25CCF25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7D04-BC26-4241-A174-6C59DCA1A0A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CEBE-3ABE-4A9F-8929-F25CAB34A78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5"/>
          <p:cNvSpPr/>
          <p:nvPr/>
        </p:nvSpPr>
        <p:spPr>
          <a:xfrm>
            <a:off x="0" y="1989000"/>
            <a:ext cx="9144000" cy="46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Our research uses Mother - baby trial approach  to evaluate and validate the technologies (test lines; tillage; fertilizer, nutrition/feeding 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Mother Trial 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Researcher designed and farmer/researcher implemented trial  (for technology testing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Farmer’s contribution: Land, labour, security and certain activities to manage the plo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Incentives- crop produce goes to farmers and monitory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Baby Trial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Used  for technology validation. Farmer provides land, labour and manage the  trial; seed/fertilizer </a:t>
            </a:r>
            <a:r>
              <a:rPr b="0" i="1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etc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supplied by research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Incentive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farmers get quick access to technology and knowl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2"/>
          <p:cNvSpPr/>
          <p:nvPr/>
        </p:nvSpPr>
        <p:spPr>
          <a:xfrm>
            <a:off x="611280" y="1162080"/>
            <a:ext cx="791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224e25"/>
                </a:solidFill>
                <a:latin typeface="Calibri"/>
              </a:rPr>
              <a:t>Inputs and Incentives – KK persp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put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304920" y="609480"/>
          <a:ext cx="8839080" cy="4937400"/>
        </p:xfrm>
        <a:graphic>
          <a:graphicData uri="http://schemas.openxmlformats.org/drawingml/2006/table">
            <a:tbl>
              <a:tblPr/>
              <a:tblGrid>
                <a:gridCol w="1819080"/>
                <a:gridCol w="5710320"/>
                <a:gridCol w="1309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or F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s for Technology te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her trials: typical of crop, soils: test lines, candidate varieties, fertilizer options, chicken, feeds, Farm implements, tree seedlings, crop management inputs - pesticides, herbicides,  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s for Technology valid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y trials at same time as mother trials (random): promising technologies selected by farmers; candidate varieties, promising fertilizer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 under farmer’s 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eneric definition covering  situations above with examples…and data/knowledge collected or genera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2"/>
          <p:cNvSpPr/>
          <p:nvPr/>
        </p:nvSpPr>
        <p:spPr>
          <a:xfrm>
            <a:off x="-108000" y="1268280"/>
            <a:ext cx="9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review by the team for publication – Key issu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792000" y="2060640"/>
            <a:ext cx="784872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Data is generally assembled but some of them need reanalys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ed to sharpen background and discussions/justific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ome methodologies should be more precisely describ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larifications/assumptions/sensitivity analys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tatistics – qualitative, quantitative data- how do we handle. Some needs qualitative support for discuss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Overall on the science – how novel it is – highlight – how it solves the problem especially in the light of sustainable intensification for semi-arid reg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e have some publication which needed to be combined with Bab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oul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R4D platform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Calibri"/>
              </a:rPr>
              <a:t>Socioeconomic data, fertilizers and agronomy, soil land and 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2"/>
          <p:cNvSpPr/>
          <p:nvPr/>
        </p:nvSpPr>
        <p:spPr>
          <a:xfrm>
            <a:off x="3203640" y="765000"/>
            <a:ext cx="28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Publication stat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270000" y="1413000"/>
          <a:ext cx="8856360" cy="5302080"/>
        </p:xfrm>
        <a:graphic>
          <a:graphicData uri="http://schemas.openxmlformats.org/drawingml/2006/table">
            <a:tbl>
              <a:tblPr/>
              <a:tblGrid>
                <a:gridCol w="1135080"/>
                <a:gridCol w="984240"/>
                <a:gridCol w="984240"/>
                <a:gridCol w="1060200"/>
                <a:gridCol w="1059120"/>
                <a:gridCol w="1307880"/>
                <a:gridCol w="1192320"/>
                <a:gridCol w="1133280"/>
              </a:tblGrid>
              <a:tr h="912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uscri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papers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papers submit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manuscript ready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needed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jour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manuscript under prepa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needed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04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itha Seet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nal and child nutr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aflatoxin and stun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06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thony Kima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iculture, ecosystem &amp; enviro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y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04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w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and water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455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tha swam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c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 cost bene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28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uban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½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85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trick Oko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½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t bree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seed systems, PVS, cost benefit , food sec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03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EYSWAI</cp:lastModifiedBy>
  <dcterms:modified xsi:type="dcterms:W3CDTF">2016-07-02T08:58:31Z</dcterms:modified>
  <cp:revision>3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